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2B9-B638-458D-ADB6-CE461BAA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933-817F-4E8A-B6AA-E30AA79A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2D2-D5B8-45CC-9657-104ED7B1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5CD-E305-4EF3-B5F9-4B0107E0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363-FA39-4D3A-B1A2-F5A7F57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913-E193-4C4B-A535-B020F198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6ED-F139-4B9E-99E9-FBF09F4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534-C863-4F9E-B5B1-8741CD08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8E2-1956-4894-A268-76FAFCD4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D92-9086-4194-A0EB-8D7BEFD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45-67D1-4DD9-8CA8-82F1F15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C93-1E59-4DB7-887C-2052DFE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F19-A6EF-4E1B-BEEB-6712184C6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114800"/>
            <a:ext cx="7010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Shanelle Robles, Patrick Negrete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ailey William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19810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net Definition</a:t>
            </a:r>
            <a:endParaRPr b="0" lang="en-US" sz="2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304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What do we think is a pla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1629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The planet mu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Have a moon or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Gravity of 0.25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Diameter of about 10,000 and ab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Mass of 50 or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A rotational period of about a day or mor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Orbital Eccentrici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0.5 or abo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685800"/>
          <a:ext cx="868680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6868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 txBox="1"/>
          <p:nvPr/>
        </p:nvSpPr>
        <p:spPr>
          <a:xfrm>
            <a:off x="2286000" y="2286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meter of a Plan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abfc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0" y="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ber of Moo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666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2438280" y="3049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6600cc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23048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048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523880" y="457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bital Eccentricity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bfc6"/>
            </a:gs>
            <a:gs pos="50000">
              <a:srgbClr val="ff3399"/>
            </a:gs>
            <a:gs pos="100000">
              <a:srgbClr val="3abf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0"/>
          <a:ext cx="891540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9154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457200" y="99072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ss Compared to Earth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00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362320"/>
          <a:ext cx="82296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1447920" y="53352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Rotational Peri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9240" cy="585108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58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a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ercu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pi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atu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eptu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</a:rPr>
                        <a:t>Dwarf plan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lu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um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ke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Ven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on-plan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7:16:29Z</dcterms:created>
  <dc:creator>mchamorro</dc:creator>
  <dc:description/>
  <dc:language>en-US</dc:language>
  <cp:lastModifiedBy>Phil</cp:lastModifiedBy>
  <dcterms:modified xsi:type="dcterms:W3CDTF">2011-02-17T04:53:17Z</dcterms:modified>
  <cp:revision>11</cp:revision>
  <dc:subject/>
  <dc:title>Slide 1</dc:title>
</cp:coreProperties>
</file>